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peopleooo.wav" ContentType="audio/x-wav"/>
  <Override PartName="/ppt/media/zipup202.wav" ContentType="audio/x-wav"/>
  <Override PartName="/ppt/media/children%20wow.wav" ContentType="audio/x-wav"/>
  <Override PartName="/ppt/media/zipby102.wav" ContentType="audio/x-wav"/>
  <Override PartName="/ppt/media/image2.gif" ContentType="image/gif"/>
  <Override PartName="/ppt/media/zipdn102.wav" ContentType="audio/x-wav"/>
  <Override PartName="/ppt/media/PROJCTOR.WAV" ContentType="audio/x-wav"/>
  <Override PartName="/ppt/media/zapbig0g.wav" ContentType="audio/x-wav"/>
  <Override PartName="/ppt/media/camera.wav" ContentType="audio/x-wav"/>
  <Override PartName="/ppt/media/highchime.wav" ContentType="audio/x-wav"/>
  <Override PartName="/ppt/media/partyhorn.wav" ContentType="audio/x-wav"/>
  <Override PartName="/ppt/media/bserie06.wav" ContentType="audio/x-wav"/>
  <Override PartName="/ppt/media/caralarmoff.wav" ContentType="audio/x-wav"/>
  <Override PartName="/ppt/media/hzipup01.wav" ContentType="audio/x-wav"/>
  <Override PartName="/ppt/media/glas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B93-BEEA-4ED4-B45D-DFC4A35C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DE7-41CA-4075-8566-2FCE2B82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9257-9E52-4E73-9585-8008A9E8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F35-2ECB-4C93-9C8C-3994F8D1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8C2-C1D1-468C-8C22-DAF0E050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895-8B18-41ED-A89A-5DD794D9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FE5-D5C7-484F-BBEE-D40B76D5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101-FB63-48FF-8818-2E305B62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4CE-3CF6-48DC-A9E1-EEC2F5EC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086-A108-40E5-98B1-6E12D37C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1D6-D4FC-499A-AD64-77177B44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CC0-9C64-40A5-A5D5-EB974A70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8C2F-5EDA-417A-9C0D-230013821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PROJCTOR.WAV"/><Relationship Id="rId3" Type="http://schemas.openxmlformats.org/officeDocument/2006/relationships/audio" Target="../media/highchime.wav"/><Relationship Id="rId4" Type="http://schemas.openxmlformats.org/officeDocument/2006/relationships/audio" Target="../media/partyhorn.wav"/><Relationship Id="rId5" Type="http://schemas.openxmlformats.org/officeDocument/2006/relationships/audio" Target="../media/partyhorn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ipup202.wav"/><Relationship Id="rId9" Type="http://schemas.openxmlformats.org/officeDocument/2006/relationships/audio" Target="../media/hzipup01.wav"/><Relationship Id="rId10" Type="http://schemas.openxmlformats.org/officeDocument/2006/relationships/audio" Target="../media/peopleooo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hzipup01.wav"/><Relationship Id="rId15" Type="http://schemas.openxmlformats.org/officeDocument/2006/relationships/audio" Target="../media/peopleooo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audio" Target="../media/zapbig0g.wav"/><Relationship Id="rId4" Type="http://schemas.openxmlformats.org/officeDocument/2006/relationships/audio" Target="../media/glass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ipup202.wav"/><Relationship Id="rId10" Type="http://schemas.openxmlformats.org/officeDocument/2006/relationships/audio" Target="../media/hzipup01.wav"/><Relationship Id="rId11" Type="http://schemas.openxmlformats.org/officeDocument/2006/relationships/audio" Target="../media/peopleooo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zipup202.wav"/><Relationship Id="rId15" Type="http://schemas.openxmlformats.org/officeDocument/2006/relationships/audio" Target="../media/hzipup01.wav"/><Relationship Id="rId16" Type="http://schemas.openxmlformats.org/officeDocument/2006/relationships/audio" Target="../media/peopleooo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zipup01.wav"/><Relationship Id="rId3" Type="http://schemas.openxmlformats.org/officeDocument/2006/relationships/audio" Target="../media/caralarmoff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up202.wav"/><Relationship Id="rId13" Type="http://schemas.openxmlformats.org/officeDocument/2006/relationships/audio" Target="../media/zipup202.wav"/><Relationship Id="rId14" Type="http://schemas.openxmlformats.org/officeDocument/2006/relationships/audio" Target="../media/zipup202.wav"/><Relationship Id="rId15" Type="http://schemas.openxmlformats.org/officeDocument/2006/relationships/audio" Target="../media/hzipup01.wav"/><Relationship Id="rId16" Type="http://schemas.openxmlformats.org/officeDocument/2006/relationships/audio" Target="../media/peopleooo.wav"/><Relationship Id="rId17" Type="http://schemas.openxmlformats.org/officeDocument/2006/relationships/audio" Target="../media/hzipup01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audio" Target="../media/bserie06.wav"/><Relationship Id="rId21" Type="http://schemas.openxmlformats.org/officeDocument/2006/relationships/audio" Target="../media/peopleooo.wav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partyhorn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ipup202.wav"/><Relationship Id="rId9" Type="http://schemas.openxmlformats.org/officeDocument/2006/relationships/audio" Target="../media/hzipup01.wav"/><Relationship Id="rId10" Type="http://schemas.openxmlformats.org/officeDocument/2006/relationships/audio" Target="../media/peopleooo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hzipup01.wav"/><Relationship Id="rId15" Type="http://schemas.openxmlformats.org/officeDocument/2006/relationships/audio" Target="../media/peopleooo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caralarmoff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audio" Target="../media/children%20wow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caralarmoff.wav"/><Relationship Id="rId25" Type="http://schemas.openxmlformats.org/officeDocument/2006/relationships/audio" Target="../media/children%20wow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301760"/>
            <a:ext cx="8686800" cy="5302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rtions 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1382760"/>
            <a:ext cx="24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r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98480" y="4562640"/>
                <a:ext cx="184968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830840" y="5021280"/>
                <a:ext cx="2241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538200" y="140184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- an equation that states that two ratios ar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046840" y="1833480"/>
                <a:ext cx="184752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239760" y="3494160"/>
            <a:ext cx="51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oss Product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4760" y="3475080"/>
            <a:ext cx="87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                              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- the product of the extremes equals the product of the me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0760" y="510228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14840" y="5141880"/>
            <a:ext cx="10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7040" y="1909800"/>
                <a:ext cx="24433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7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the Cross Product Property and Checking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41560" y="3552840"/>
                <a:ext cx="8395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proportion and check for extraneous solu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20760" y="4589640"/>
                <a:ext cx="61596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876320" y="4248000"/>
                <a:ext cx="22957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09800" y="3649680"/>
                <a:ext cx="1398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098960" y="4417920"/>
                <a:ext cx="1398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585800" y="2352600"/>
            <a:ext cx="746280" cy="5968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528920" y="2297160"/>
            <a:ext cx="839520" cy="6904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eopleooo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55480" y="1927080"/>
                <a:ext cx="3881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77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the Cross Product Property and Checking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41360" y="3416400"/>
                <a:ext cx="2239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proportion and check for extraneous solu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29080" y="3381480"/>
            <a:ext cx="2796840" cy="94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47840" y="4235400"/>
                <a:ext cx="22381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33760" y="4238640"/>
                <a:ext cx="2685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0" y="4816440"/>
                <a:ext cx="1455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664000" y="4821120"/>
                <a:ext cx="1457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504720" y="5578560"/>
            <a:ext cx="4757760" cy="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838160" y="5492880"/>
                <a:ext cx="839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624040" y="5497560"/>
                <a:ext cx="1511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025880" y="4808520"/>
                <a:ext cx="1287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51080" y="4795920"/>
                <a:ext cx="1288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 flipH="1">
            <a:off x="502920" y="4422600"/>
            <a:ext cx="803160" cy="106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94080" y="4406760"/>
            <a:ext cx="803520" cy="106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40400" y="5826240"/>
                <a:ext cx="6159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116680" y="5668920"/>
                <a:ext cx="13460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866960" y="619776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68800" y="6200640"/>
            <a:ext cx="8204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41560" y="614520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444840" y="612936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351160" y="2425680"/>
            <a:ext cx="1138320" cy="5968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108160" y="2388960"/>
            <a:ext cx="1063800" cy="61596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95360" y="1636560"/>
                <a:ext cx="39304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77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the Cross Product Property and Checking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33440" y="3157560"/>
                <a:ext cx="3416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proportion and check for extraneous solu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86120" y="3095640"/>
                <a:ext cx="29098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55800" y="3921120"/>
                <a:ext cx="1735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763800" y="3924360"/>
                <a:ext cx="2741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324080" y="4483080"/>
                <a:ext cx="13446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00400" y="4470480"/>
                <a:ext cx="1344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662120" y="5319720"/>
            <a:ext cx="4757760" cy="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219480" y="5318280"/>
                <a:ext cx="392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98720" y="5202360"/>
                <a:ext cx="13986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443560" y="4568760"/>
                <a:ext cx="1063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83000" y="4575240"/>
                <a:ext cx="1065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H="1">
            <a:off x="1957320" y="4146480"/>
            <a:ext cx="525600" cy="1006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451120" y="4148280"/>
            <a:ext cx="803160" cy="106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4440" y="2182680"/>
            <a:ext cx="1138320" cy="5968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071800" y="2145960"/>
            <a:ext cx="1063440" cy="61596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176640" y="624204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759120" y="5877000"/>
                <a:ext cx="1847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757840" y="6046920"/>
                <a:ext cx="1398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75160" y="2467080"/>
                <a:ext cx="4221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is extraneou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05760" y="4908600"/>
                <a:ext cx="1523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Prop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8120" y="11635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4.  You are making a scale model of a sailboat. The boat is </a:t>
            </a:r>
            <a:r>
              <a:rPr b="0" lang="en-US" sz="3200" spc="-1" strike="noStrike">
                <a:solidFill>
                  <a:srgbClr val="ff0000"/>
                </a:solidFill>
                <a:latin typeface="Baskerville Old Face"/>
              </a:rPr>
              <a:t>20 feet long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Baskerville Old Face"/>
              </a:rPr>
              <a:t>15 feet high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. Your scale model will be </a:t>
            </a:r>
            <a:r>
              <a:rPr b="0" lang="en-US" sz="3200" spc="-1" strike="noStrike">
                <a:solidFill>
                  <a:srgbClr val="3333cc"/>
                </a:solidFill>
                <a:latin typeface="Baskerville Old Face"/>
              </a:rPr>
              <a:t>18 inches high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. How long will it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ailboat_front_hg_wht" descr=""/>
          <p:cNvPicPr/>
          <p:nvPr/>
        </p:nvPicPr>
        <p:blipFill>
          <a:blip r:embed="rId1"/>
          <a:stretch/>
        </p:blipFill>
        <p:spPr>
          <a:xfrm>
            <a:off x="5253120" y="2986200"/>
            <a:ext cx="3890880" cy="389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47800" y="2862360"/>
                <a:ext cx="8622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2760" y="4356000"/>
                <a:ext cx="12319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494080" y="4341960"/>
                <a:ext cx="17352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989000" y="5904000"/>
                <a:ext cx="6159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13160" y="5773680"/>
                <a:ext cx="14014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62120" y="506088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63960" y="506412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25480" y="4981680"/>
                <a:ext cx="784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27320" y="4965840"/>
                <a:ext cx="785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262080" y="2930400"/>
            <a:ext cx="1604880" cy="581400"/>
            <a:chOff x="262080" y="2930400"/>
            <a:chExt cx="1604880" cy="581400"/>
          </a:xfrm>
        </p:grpSpPr>
        <p:sp>
          <p:nvSpPr>
            <p:cNvPr id="127" name=""/>
            <p:cNvSpPr/>
            <p:nvPr/>
          </p:nvSpPr>
          <p:spPr>
            <a:xfrm>
              <a:off x="262080" y="2930400"/>
              <a:ext cx="123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99"/>
                  </a:solidFill>
                  <a:latin typeface="Times New Roman"/>
                </a:rPr>
                <a:t>leng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44600" y="3228840"/>
              <a:ext cx="52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62080" y="3660840"/>
            <a:ext cx="1604880" cy="581400"/>
            <a:chOff x="262080" y="3660840"/>
            <a:chExt cx="1604880" cy="581400"/>
          </a:xfrm>
        </p:grpSpPr>
        <p:sp>
          <p:nvSpPr>
            <p:cNvPr id="130" name=""/>
            <p:cNvSpPr/>
            <p:nvPr/>
          </p:nvSpPr>
          <p:spPr>
            <a:xfrm>
              <a:off x="262080" y="3660840"/>
              <a:ext cx="123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99"/>
                  </a:solidFill>
                  <a:latin typeface="Times New Roman"/>
                </a:rPr>
                <a:t>heigh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44600" y="3959280"/>
              <a:ext cx="52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97040" y="2854440"/>
                <a:ext cx="148428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63760" y="310032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33880" y="3666960"/>
                <a:ext cx="66996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500200" y="3340080"/>
            <a:ext cx="801720" cy="56052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425680" y="3303360"/>
            <a:ext cx="895320" cy="5778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17880" y="5807160"/>
            <a:ext cx="12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eopleooo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eopleooo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wow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ldren%20wow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22T15:02:37Z</dcterms:modified>
  <cp:revision>8</cp:revision>
  <dc:subject/>
  <dc:title>Slide 1</dc:title>
</cp:coreProperties>
</file>